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24.png" ContentType="image/png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40527-7DBE-4E75-8D0E-7D13A1B947B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546B2-1224-4B3F-A863-403D8D4374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参观植物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6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7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0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1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4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7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0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3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6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TextBox 4"/>
          <p:cNvSpPr/>
          <p:nvPr/>
        </p:nvSpPr>
        <p:spPr>
          <a:xfrm>
            <a:off x="6548400" y="503280"/>
            <a:ext cx="21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三    解决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6"/>
          <p:cNvSpPr/>
          <p:nvPr/>
        </p:nvSpPr>
        <p:spPr>
          <a:xfrm>
            <a:off x="965160" y="1276200"/>
            <a:ext cx="72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某单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员工外出学习，晚上住酒店，三人间的每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，两人间的每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。他们怎样住店最便宜？最少需要多少元钱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2806560" y="2948040"/>
            <a:ext cx="568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×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×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0×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5×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5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租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间三人间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间两人间最便宜，最少需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120" name="圆角矩形 9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d4ad8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组合 1"/>
          <p:cNvGrpSpPr/>
          <p:nvPr/>
        </p:nvGrpSpPr>
        <p:grpSpPr>
          <a:xfrm>
            <a:off x="990720" y="1994040"/>
            <a:ext cx="7167600" cy="2837160"/>
            <a:chOff x="990720" y="1994040"/>
            <a:chExt cx="7167600" cy="2837160"/>
          </a:xfrm>
        </p:grpSpPr>
        <p:sp>
          <p:nvSpPr>
            <p:cNvPr id="124" name="矩形 13"/>
            <p:cNvSpPr/>
            <p:nvPr/>
          </p:nvSpPr>
          <p:spPr>
            <a:xfrm>
              <a:off x="990720" y="1994040"/>
              <a:ext cx="71676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28560" indent="-628560">
                <a:lnSpc>
                  <a:spcPct val="150000"/>
                </a:lnSpc>
                <a:tabLst>
                  <a:tab algn="l" pos="0"/>
                  <a:tab algn="l" pos="6285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某旅行社推出“东坡赤壁”一日游，两种购票方案如下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628560" indent="-628560">
                <a:lnSpc>
                  <a:spcPct val="150000"/>
                </a:lnSpc>
                <a:tabLst>
                  <a:tab algn="l" pos="0"/>
                  <a:tab algn="l" pos="6285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628560" indent="-628560">
                <a:lnSpc>
                  <a:spcPct val="150000"/>
                </a:lnSpc>
                <a:tabLst>
                  <a:tab algn="l" pos="0"/>
                  <a:tab algn="l" pos="6285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628560" indent="-628560">
                <a:lnSpc>
                  <a:spcPct val="150000"/>
                </a:lnSpc>
                <a:tabLst>
                  <a:tab algn="l" pos="0"/>
                  <a:tab algn="l" pos="6285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628560" indent="-628560">
                <a:lnSpc>
                  <a:spcPct val="150000"/>
                </a:lnSpc>
                <a:tabLst>
                  <a:tab algn="l" pos="0"/>
                  <a:tab algn="l" pos="6285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请你联系生活实际，设计最优购票方案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5" name="Picture 7" descr=""/>
            <p:cNvPicPr/>
            <p:nvPr/>
          </p:nvPicPr>
          <p:blipFill>
            <a:blip r:embed="rId2"/>
            <a:stretch/>
          </p:blipFill>
          <p:spPr>
            <a:xfrm>
              <a:off x="1958760" y="3268440"/>
              <a:ext cx="5499360" cy="144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3"/>
          <p:cNvSpPr/>
          <p:nvPr/>
        </p:nvSpPr>
        <p:spPr>
          <a:xfrm>
            <a:off x="990720" y="1566720"/>
            <a:ext cx="71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贝一家五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爷爷、奶奶、妈妈、爸爸、贝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去旅游，怎样购票最省钱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1690560" y="2917800"/>
            <a:ext cx="577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大人购团体票，贝贝一人购儿童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0×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8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张团体票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张儿童票最划算，至少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3"/>
          <p:cNvSpPr/>
          <p:nvPr/>
        </p:nvSpPr>
        <p:spPr>
          <a:xfrm>
            <a:off x="990720" y="1566720"/>
            <a:ext cx="71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有三个大人和三个小孩，怎样买票最划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1690560" y="2362320"/>
            <a:ext cx="577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大人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小孩合起来组建一个团体，另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小孩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张儿童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0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6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大人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小孩合成一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团体，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张团体票，剩下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小孩再购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张儿童票最合算，至少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34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36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233360" y="213660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合理租船、购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乘车方案及租房中的数学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81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6"/>
          <p:cNvSpPr/>
          <p:nvPr/>
        </p:nvSpPr>
        <p:spPr>
          <a:xfrm>
            <a:off x="1119240" y="1763640"/>
            <a:ext cx="702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大船每条限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，租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；小船每条限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，租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。现有一旅游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一起划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租大船需要多少元钱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86" name="圆角矩形 11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d4ad8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矩形 2"/>
          <p:cNvSpPr/>
          <p:nvPr/>
        </p:nvSpPr>
        <p:spPr>
          <a:xfrm>
            <a:off x="2581200" y="3608280"/>
            <a:ext cx="400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8÷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条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……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条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×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只租大船需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6"/>
          <p:cNvSpPr/>
          <p:nvPr/>
        </p:nvSpPr>
        <p:spPr>
          <a:xfrm>
            <a:off x="965160" y="2000160"/>
            <a:ext cx="72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租小船需要多少元钱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2509920" y="2933640"/>
            <a:ext cx="412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8÷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7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条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×1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只租小船需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6"/>
          <p:cNvSpPr/>
          <p:nvPr/>
        </p:nvSpPr>
        <p:spPr>
          <a:xfrm>
            <a:off x="963720" y="1703520"/>
            <a:ext cx="72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怎样租船最省钱？最少需要租金多少元钱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2"/>
          <p:cNvSpPr/>
          <p:nvPr/>
        </p:nvSpPr>
        <p:spPr>
          <a:xfrm>
            <a:off x="2119320" y="2671920"/>
            <a:ext cx="4921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×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×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租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条大船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条小船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×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×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4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租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条大船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条小船最省钱，最少需要租金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4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1"/>
          <p:cNvGrpSpPr/>
          <p:nvPr/>
        </p:nvGrpSpPr>
        <p:grpSpPr>
          <a:xfrm>
            <a:off x="965160" y="1276200"/>
            <a:ext cx="7229520" cy="3934440"/>
            <a:chOff x="965160" y="1276200"/>
            <a:chExt cx="7229520" cy="3934440"/>
          </a:xfrm>
        </p:grpSpPr>
        <p:sp>
          <p:nvSpPr>
            <p:cNvPr id="95" name="TextBox 36"/>
            <p:cNvSpPr/>
            <p:nvPr/>
          </p:nvSpPr>
          <p:spPr>
            <a:xfrm>
              <a:off x="965160" y="1276200"/>
              <a:ext cx="722952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参观动物园有两种购票方案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成人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人，儿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人，选哪种方案合算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6" name="Picture 2" descr=""/>
            <p:cNvPicPr/>
            <p:nvPr/>
          </p:nvPicPr>
          <p:blipFill>
            <a:blip r:embed="rId1"/>
            <a:stretch/>
          </p:blipFill>
          <p:spPr>
            <a:xfrm>
              <a:off x="2791080" y="1935720"/>
              <a:ext cx="3574440" cy="13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矩形 5"/>
          <p:cNvSpPr/>
          <p:nvPr/>
        </p:nvSpPr>
        <p:spPr>
          <a:xfrm>
            <a:off x="2035080" y="4092480"/>
            <a:ext cx="506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方案一购票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×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×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4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方案二购票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×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1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按方案一购票比较合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6"/>
          <p:cNvSpPr/>
          <p:nvPr/>
        </p:nvSpPr>
        <p:spPr>
          <a:xfrm>
            <a:off x="965160" y="2119320"/>
            <a:ext cx="72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，儿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，选哪种方案合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2"/>
          <p:cNvSpPr/>
          <p:nvPr/>
        </p:nvSpPr>
        <p:spPr>
          <a:xfrm>
            <a:off x="2048040" y="2938320"/>
            <a:ext cx="506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方案一购票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×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7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方案二购票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×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7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1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按方案二购票比较合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2"/>
          <p:cNvGrpSpPr/>
          <p:nvPr/>
        </p:nvGrpSpPr>
        <p:grpSpPr>
          <a:xfrm>
            <a:off x="1060560" y="2284560"/>
            <a:ext cx="7229520" cy="2234880"/>
            <a:chOff x="1060560" y="2284560"/>
            <a:chExt cx="7229520" cy="2234880"/>
          </a:xfrm>
        </p:grpSpPr>
        <p:sp>
          <p:nvSpPr>
            <p:cNvPr id="101" name="TextBox 36"/>
            <p:cNvSpPr/>
            <p:nvPr/>
          </p:nvSpPr>
          <p:spPr>
            <a:xfrm>
              <a:off x="1060560" y="2284560"/>
              <a:ext cx="7229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28560" indent="-628560">
                <a:lnSpc>
                  <a:spcPct val="150000"/>
                </a:lnSpc>
                <a:tabLst>
                  <a:tab algn="l" pos="0"/>
                  <a:tab algn="l" pos="6285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四年级师生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人去旅游，先将下面的几种租车方案填完整，再比较哪种租车方案最划算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Picture 1" descr=""/>
            <p:cNvPicPr/>
            <p:nvPr/>
          </p:nvPicPr>
          <p:blipFill>
            <a:blip r:embed="rId1"/>
            <a:stretch/>
          </p:blipFill>
          <p:spPr>
            <a:xfrm>
              <a:off x="2697480" y="3689640"/>
              <a:ext cx="3765240" cy="82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319040" y="1638360"/>
          <a:ext cx="6424920" cy="3382920"/>
        </p:xfrm>
        <a:graphic>
          <a:graphicData uri="http://schemas.openxmlformats.org/drawingml/2006/table">
            <a:tbl>
              <a:tblPr/>
              <a:tblGrid>
                <a:gridCol w="1175040"/>
                <a:gridCol w="1544400"/>
                <a:gridCol w="1567080"/>
                <a:gridCol w="1128600"/>
                <a:gridCol w="1009800"/>
              </a:tblGrid>
              <a:tr h="1554840"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大车辆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小车辆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可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总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租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方案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方案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方案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方案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矩形 3"/>
          <p:cNvSpPr/>
          <p:nvPr/>
        </p:nvSpPr>
        <p:spPr>
          <a:xfrm>
            <a:off x="2795760" y="5427720"/>
            <a:ext cx="35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按方案三租车最划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"/>
          <p:cNvSpPr/>
          <p:nvPr/>
        </p:nvSpPr>
        <p:spPr>
          <a:xfrm>
            <a:off x="3083760" y="365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4"/>
          <p:cNvSpPr/>
          <p:nvPr/>
        </p:nvSpPr>
        <p:spPr>
          <a:xfrm>
            <a:off x="4657680" y="365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5905440" y="3654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915960" y="3654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7"/>
          <p:cNvSpPr/>
          <p:nvPr/>
        </p:nvSpPr>
        <p:spPr>
          <a:xfrm>
            <a:off x="3083760" y="41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8"/>
          <p:cNvSpPr/>
          <p:nvPr/>
        </p:nvSpPr>
        <p:spPr>
          <a:xfrm>
            <a:off x="4657680" y="413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5905440" y="412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0"/>
          <p:cNvSpPr/>
          <p:nvPr/>
        </p:nvSpPr>
        <p:spPr>
          <a:xfrm>
            <a:off x="6915960" y="4114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1"/>
          <p:cNvSpPr/>
          <p:nvPr/>
        </p:nvSpPr>
        <p:spPr>
          <a:xfrm>
            <a:off x="5905440" y="4576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3083760" y="457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4657680" y="455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6915960" y="4567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cp:keywords/>
  <dc:language>en-US</dc:language>
  <cp:lastModifiedBy>Administrator</cp:lastModifiedBy>
  <dcterms:modified xsi:type="dcterms:W3CDTF">2017-11-12T13:40:23Z</dcterms:modified>
  <cp:revision>46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